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99B8-8E10-4DFB-92E1-234E900C8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62A1-D5D7-46FA-A0A7-B2608A697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0410-B3E0-46E5-93E4-2B3BD943B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4782-AB92-4DF5-9D6F-BB0711AA7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BF32-2977-4902-BF5F-9E1DBD433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35B0-95F6-4A7B-A165-587A56D93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6F2D-A472-4858-8897-44C9EB9E6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DC0A-E363-4B0C-9623-1FBE62B94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C8A8-8BB0-492A-B0FC-A9762BC2C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954B-6D70-480A-AF96-5420D91E4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A152-1CA3-44C1-A722-8F42A0BF0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D21D-F9EA-4FDF-9C35-4BE0E02DE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94DB-1019-4986-91DE-233E28B1E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3A79-D067-4704-B79F-366933D2B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7CB6-6DE9-49EA-A9FC-6495E9ABF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6AB7-1745-495C-AF5F-D1341759F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DAEB-B20D-4DB0-81BD-FFA4B7B91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398A6-95B0-46AF-AEFE-71FA51471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18353-D558-4CEC-A32C-5C01A159E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75EF0-1BE0-48F1-9EF2-FD2492F32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AE5C0-E9D9-4724-8B6C-752533216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C5029-81AA-4C72-9C53-A7E0CB375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BBA08-0847-43F6-99DF-551E671AD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C4AF3-576D-4257-BF92-5960C9BD8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A7A85-2110-4DEA-BDD0-0AF2C2FD5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F4172-D96A-4BC3-BA9C-3574552F4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5A537-0342-4576-94DA-A059C7131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67D99-E6AB-43C3-98F3-910C836CA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DA519-1C67-46EC-8D2D-1E3CA0564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E8D6A-75D3-4718-A55B-9B8964EA7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7C844-9789-401D-951F-8757F0712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24562-2520-4F82-A1C4-EB697E872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E3670-76B6-4F76-8400-A5EDB6D22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0601A-A936-4EF4-AA25-C656A5B75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B78C58-5571-47E1-BBB8-7E1F55A1E9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2CDDC-704B-48A1-9B18-A9986E5C04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85D4BF-FFE2-41CD-A4F9-063587164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5CCD7-1E14-4734-821E-AB8CB7A9C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DC4DE1-E2F1-4CA0-B9AD-ADE7365DC8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A1F60-E6F4-4E82-828E-CD141292E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446D7A-8677-4092-818A-9C9438450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7D0AE-955C-410A-938A-70BFBDFF4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AD123-A409-4DBE-A04E-E78DB2C15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AAE845-7F7B-4E9E-AF70-AD0CDD70F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CC4EB-1CEC-4E61-ACC2-B4C869C76A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A34FBC-1A05-4F6D-9A3E-9B47F081EF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84860C-1185-4A79-B8B2-D93B9F3141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3E0F-3E98-4D65-87C0-3BA82F5E9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0854E-F842-4462-8F84-691F7AFF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95FBB-6263-4842-A83B-4665E0A60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D704A-21CA-4C9A-9C9C-0C88801EE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A7129-7032-48FC-BE73-7E1212086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BB820-5ADF-4A6C-AF26-9E55A8DE2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EFF0-E357-4DEE-B73B-0B0CA8440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8F54-F1FE-4539-98BD-82E28A0ADF7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9" name="Group 40"/>
          <p:cNvGrpSpPr/>
          <p:nvPr/>
        </p:nvGrpSpPr>
        <p:grpSpPr>
          <a:xfrm>
            <a:off x="7170480" y="-86400"/>
            <a:ext cx="2429640" cy="2250000"/>
            <a:chOff x="7170480" y="-86400"/>
            <a:chExt cx="2429640" cy="2250000"/>
          </a:xfrm>
        </p:grpSpPr>
        <p:grpSp>
          <p:nvGrpSpPr>
            <p:cNvPr id="80" name="Group 41"/>
            <p:cNvGrpSpPr/>
            <p:nvPr/>
          </p:nvGrpSpPr>
          <p:grpSpPr>
            <a:xfrm>
              <a:off x="7170480" y="-86400"/>
              <a:ext cx="2429640" cy="2250000"/>
              <a:chOff x="7170480" y="-86400"/>
              <a:chExt cx="2429640" cy="2250000"/>
            </a:xfrm>
          </p:grpSpPr>
          <p:sp>
            <p:nvSpPr>
              <p:cNvPr id="8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2" name="Group 43"/>
              <p:cNvGrpSpPr/>
              <p:nvPr/>
            </p:nvGrpSpPr>
            <p:grpSpPr>
              <a:xfrm>
                <a:off x="7170480" y="-86400"/>
                <a:ext cx="2429640" cy="2250000"/>
                <a:chOff x="7170480" y="-86400"/>
                <a:chExt cx="2429640" cy="2250000"/>
              </a:xfrm>
            </p:grpSpPr>
            <p:sp>
              <p:nvSpPr>
                <p:cNvPr id="83"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Freeform 45"/>
                <p:cNvSpPr/>
                <p:nvPr/>
              </p:nvSpPr>
              <p:spPr>
                <a:xfrm rot="18427200">
                  <a:off x="8018640" y="522720"/>
                  <a:ext cx="4280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Freeform 46"/>
                <p:cNvSpPr/>
                <p:nvPr/>
              </p:nvSpPr>
              <p:spPr>
                <a:xfrm rot="18427200">
                  <a:off x="7716600" y="285480"/>
                  <a:ext cx="80388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Freeform 47"/>
                <p:cNvSpPr/>
                <p:nvPr/>
              </p:nvSpPr>
              <p:spPr>
                <a:xfrm rot="18427200">
                  <a:off x="7781400" y="-27720"/>
                  <a:ext cx="12070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Freeform 48"/>
                <p:cNvSpPr/>
                <p:nvPr/>
              </p:nvSpPr>
              <p:spPr>
                <a:xfrm rot="18427200">
                  <a:off x="84139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Freeform 49"/>
                <p:cNvSpPr/>
                <p:nvPr/>
              </p:nvSpPr>
              <p:spPr>
                <a:xfrm rot="18427200">
                  <a:off x="8339400" y="1277640"/>
                  <a:ext cx="28800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Freeform 50"/>
                <p:cNvSpPr/>
                <p:nvPr/>
              </p:nvSpPr>
              <p:spPr>
                <a:xfrm rot="18427200">
                  <a:off x="7913160" y="333720"/>
                  <a:ext cx="28800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51"/>
                <p:cNvSpPr/>
                <p:nvPr/>
              </p:nvSpPr>
              <p:spPr>
                <a:xfrm rot="18427200">
                  <a:off x="7858440" y="219960"/>
                  <a:ext cx="28512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39" name="Group 18"/>
          <p:cNvGrpSpPr/>
          <p:nvPr/>
        </p:nvGrpSpPr>
        <p:grpSpPr>
          <a:xfrm>
            <a:off x="7796880" y="4318920"/>
            <a:ext cx="978840" cy="1158840"/>
            <a:chOff x="7796880" y="4318920"/>
            <a:chExt cx="978840" cy="1158840"/>
          </a:xfrm>
        </p:grpSpPr>
        <p:sp>
          <p:nvSpPr>
            <p:cNvPr id="140"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3" name="Group 22"/>
            <p:cNvGrpSpPr/>
            <p:nvPr/>
          </p:nvGrpSpPr>
          <p:grpSpPr>
            <a:xfrm>
              <a:off x="7796880" y="4318920"/>
              <a:ext cx="978840" cy="1158840"/>
              <a:chOff x="7796880" y="4318920"/>
              <a:chExt cx="978840" cy="1158840"/>
            </a:xfrm>
          </p:grpSpPr>
          <p:sp>
            <p:nvSpPr>
              <p:cNvPr id="144"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49"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15F1-1431-42DA-9E5E-EB3A6EC2D89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omic Sans MS"/>
              </a:rPr>
              <a:t>How to Teach Using </a:t>
            </a:r>
            <a:br>
              <a:rPr sz="4200"/>
            </a:br>
            <a:r>
              <a:rPr b="0" i="1" lang="en-US" sz="4200" spc="-1" strike="noStrike">
                <a:solidFill>
                  <a:srgbClr val="ff0000"/>
                </a:solidFill>
                <a:latin typeface="Comic Sans MS"/>
              </a:rPr>
              <a:t>Go for it!</a:t>
            </a:r>
            <a:endParaRPr b="0" lang="en-US" sz="4200" spc="-1" strike="noStrike">
              <a:solidFill>
                <a:srgbClr val="000000"/>
              </a:solidFill>
              <a:latin typeface="Comic Sans MS"/>
            </a:endParaRPr>
          </a:p>
        </p:txBody>
      </p:sp>
      <p:sp>
        <p:nvSpPr>
          <p:cNvPr id="200"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Introdu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5"/>
          <p:cNvSpPr/>
          <p:nvPr/>
        </p:nvSpPr>
        <p:spPr>
          <a:xfrm>
            <a:off x="457200" y="380880"/>
            <a:ext cx="8305920" cy="420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E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mmar Not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s there will be a </a:t>
            </a:r>
            <a:r>
              <a:rPr b="1" lang="en-US" sz="3000" spc="-1" strike="noStrike">
                <a:solidFill>
                  <a:srgbClr val="000000"/>
                </a:solidFill>
                <a:latin typeface="Arial"/>
              </a:rPr>
              <a:t>Grammar Note</a:t>
            </a:r>
            <a:r>
              <a:rPr b="0" lang="en-US" sz="3000" spc="-1" strike="noStrike">
                <a:solidFill>
                  <a:srgbClr val="000000"/>
                </a:solidFill>
                <a:latin typeface="Arial"/>
              </a:rPr>
              <a:t> to you in the Teachers</a:t>
            </a:r>
            <a:r>
              <a:rPr b="0" lang="ja-JP" sz="3000" spc="-1" strike="noStrike">
                <a:solidFill>
                  <a:srgbClr val="000000"/>
                </a:solidFill>
                <a:latin typeface="Arial"/>
              </a:rPr>
              <a:t>’</a:t>
            </a:r>
            <a:r>
              <a:rPr b="0" lang="en-US" sz="3000" spc="-1" strike="noStrike">
                <a:solidFill>
                  <a:srgbClr val="000000"/>
                </a:solidFill>
                <a:latin typeface="Arial"/>
              </a:rPr>
              <a:t> Book.  The Grammar Note may help students better understand the grammatical structures taught in the Grammar Focus box, or it may help them understand how to use some of the new vocabula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457200" y="1127160"/>
            <a:ext cx="800100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nunciation Not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s there is a </a:t>
            </a:r>
            <a:r>
              <a:rPr b="1" lang="en-US" sz="3000" spc="-1" strike="noStrike">
                <a:solidFill>
                  <a:srgbClr val="000000"/>
                </a:solidFill>
                <a:latin typeface="Arial"/>
              </a:rPr>
              <a:t>Pronunciation Note</a:t>
            </a:r>
            <a:r>
              <a:rPr b="0" lang="en-US" sz="3000" spc="-1" strike="noStrike">
                <a:solidFill>
                  <a:srgbClr val="000000"/>
                </a:solidFill>
                <a:latin typeface="Arial"/>
              </a:rPr>
              <a:t>.  The Pronunciation Note may give a pronunciation rule, show you sounds that your students may have trouble with, or show you how words in spoken English are pronounced differently from the way they are spell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4"/>
          <p:cNvSpPr/>
          <p:nvPr/>
        </p:nvSpPr>
        <p:spPr>
          <a:xfrm>
            <a:off x="304920" y="457200"/>
            <a:ext cx="8610480" cy="374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PTIONAL ACTIVITIE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oughout the Teachers</a:t>
            </a:r>
            <a:r>
              <a:rPr b="0" lang="ja-JP" sz="3000" spc="-1" strike="noStrike">
                <a:solidFill>
                  <a:srgbClr val="000000"/>
                </a:solidFill>
                <a:latin typeface="Arial"/>
              </a:rPr>
              <a:t>’</a:t>
            </a:r>
            <a:r>
              <a:rPr b="0" lang="en-US" sz="3000" spc="-1" strike="noStrike">
                <a:solidFill>
                  <a:srgbClr val="000000"/>
                </a:solidFill>
                <a:latin typeface="Arial"/>
              </a:rPr>
              <a:t> Book, there are </a:t>
            </a:r>
            <a:r>
              <a:rPr b="1" lang="en-US" sz="3000" spc="-1" strike="noStrike">
                <a:solidFill>
                  <a:srgbClr val="000000"/>
                </a:solidFill>
                <a:latin typeface="Arial"/>
              </a:rPr>
              <a:t>Optional Activities</a:t>
            </a:r>
            <a:r>
              <a:rPr b="0" lang="en-US" sz="3000" spc="-1" strike="noStrike">
                <a:solidFill>
                  <a:srgbClr val="000000"/>
                </a:solidFill>
                <a:latin typeface="Arial"/>
              </a:rPr>
              <a:t>.  These activities ask students to continue to use the new language, often in more challenging ways.  You may be able to assign these activities to more advanced students who finish other activities quick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609480" y="1203480"/>
            <a:ext cx="8077320" cy="42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UP ACTIVITIE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the Self Check Section in the Teachers</a:t>
            </a:r>
            <a:r>
              <a:rPr b="0" lang="ja-JP" sz="3000" spc="-1" strike="noStrike">
                <a:solidFill>
                  <a:srgbClr val="000000"/>
                </a:solidFill>
                <a:latin typeface="Arial"/>
              </a:rPr>
              <a:t>’</a:t>
            </a:r>
            <a:r>
              <a:rPr b="0" lang="en-US" sz="3000" spc="-1" strike="noStrike">
                <a:solidFill>
                  <a:srgbClr val="000000"/>
                </a:solidFill>
                <a:latin typeface="Arial"/>
              </a:rPr>
              <a:t> Book, there are </a:t>
            </a:r>
            <a:r>
              <a:rPr b="1" lang="en-US" sz="3000" spc="-1" strike="noStrike">
                <a:solidFill>
                  <a:srgbClr val="000000"/>
                </a:solidFill>
                <a:latin typeface="Arial"/>
              </a:rPr>
              <a:t>Follow-up Activities</a:t>
            </a:r>
            <a:r>
              <a:rPr b="0" lang="en-US" sz="3000" spc="-1" strike="noStrike">
                <a:solidFill>
                  <a:srgbClr val="000000"/>
                </a:solidFill>
                <a:latin typeface="Arial"/>
              </a:rPr>
              <a:t>.  These activities are sometimes a continuation of an activity in the unit, and sometimes activities that are designed to help students enjoy using new vocabulary even mo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4"/>
          <p:cNvSpPr/>
          <p:nvPr/>
        </p:nvSpPr>
        <p:spPr>
          <a:xfrm>
            <a:off x="457200" y="609480"/>
            <a:ext cx="8305920" cy="420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VIEW OF UNI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six units, there is a review of the units that have just been completed.  It helps students to remember new language and practice using it.  Some activities are designed to help students practice new language from one unit, and others help them practice using language from several different units togeth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4"/>
          <p:cNvSpPr/>
          <p:nvPr/>
        </p:nvSpPr>
        <p:spPr>
          <a:xfrm>
            <a:off x="457200" y="517680"/>
            <a:ext cx="8077320" cy="283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ACHING SUGGESTION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the Teachers</a:t>
            </a:r>
            <a:r>
              <a:rPr b="0" lang="ja-JP" sz="3000" spc="-1" strike="noStrike">
                <a:solidFill>
                  <a:srgbClr val="000000"/>
                </a:solidFill>
                <a:latin typeface="Arial"/>
              </a:rPr>
              <a:t>’</a:t>
            </a:r>
            <a:r>
              <a:rPr b="0" lang="en-US" sz="3000" spc="-1" strike="noStrike">
                <a:solidFill>
                  <a:srgbClr val="000000"/>
                </a:solidFill>
                <a:latin typeface="Arial"/>
              </a:rPr>
              <a:t> Book, there is a section written in Chinese with teaching suggestions that lists additional activities that you can use with each un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4"/>
          <p:cNvSpPr/>
          <p:nvPr/>
        </p:nvSpPr>
        <p:spPr>
          <a:xfrm>
            <a:off x="380880" y="593640"/>
            <a:ext cx="8382240" cy="420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PPLEMENTARY READING</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the Teachers</a:t>
            </a:r>
            <a:r>
              <a:rPr b="0" lang="ja-JP" sz="3000" spc="-1" strike="noStrike">
                <a:solidFill>
                  <a:srgbClr val="000000"/>
                </a:solidFill>
                <a:latin typeface="Arial"/>
              </a:rPr>
              <a:t>’</a:t>
            </a:r>
            <a:r>
              <a:rPr b="0" lang="en-US" sz="3000" spc="-1" strike="noStrike">
                <a:solidFill>
                  <a:srgbClr val="000000"/>
                </a:solidFill>
                <a:latin typeface="Arial"/>
              </a:rPr>
              <a:t> Book, there is a section that contains additional information about each unit that may be interesting to you or your students.  You can have your students read it, if you think they can understand it, or you can read it and present the information to them in a way that they can understa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ext Box 4" descr=""/>
          <p:cNvPicPr/>
          <p:nvPr/>
        </p:nvPicPr>
        <p:blipFill>
          <a:blip r:embed="rId1"/>
          <a:stretch/>
        </p:blipFill>
        <p:spPr>
          <a:xfrm>
            <a:off x="225360" y="304920"/>
            <a:ext cx="8461440" cy="600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6"/>
          <p:cNvSpPr/>
          <p:nvPr/>
        </p:nvSpPr>
        <p:spPr>
          <a:xfrm>
            <a:off x="152280" y="228600"/>
            <a:ext cx="8534520" cy="633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dditional material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ginning of each section in the Teachers</a:t>
            </a:r>
            <a:r>
              <a:rPr b="0" lang="ja-JP" sz="2800" spc="-1" strike="noStrike">
                <a:solidFill>
                  <a:srgbClr val="000000"/>
                </a:solidFill>
                <a:latin typeface="Arial"/>
              </a:rPr>
              <a:t>’</a:t>
            </a:r>
            <a:r>
              <a:rPr b="0" lang="en-US" sz="2800" spc="-1" strike="noStrike">
                <a:solidFill>
                  <a:srgbClr val="000000"/>
                </a:solidFill>
                <a:latin typeface="Arial"/>
              </a:rPr>
              <a:t> Book lists </a:t>
            </a:r>
            <a:r>
              <a:rPr b="1" lang="en-US" sz="2800" spc="-1" strike="noStrike">
                <a:solidFill>
                  <a:srgbClr val="000000"/>
                </a:solidFill>
                <a:latin typeface="Arial"/>
              </a:rPr>
              <a:t>additional materials</a:t>
            </a:r>
            <a:r>
              <a:rPr b="0" lang="en-US" sz="2800" spc="-1" strike="noStrike">
                <a:solidFill>
                  <a:srgbClr val="000000"/>
                </a:solidFill>
                <a:latin typeface="Arial"/>
              </a:rPr>
              <a:t> that you may want to bring to class when doing certain activities.  They are usually inexpensive materials that you may have at home, but might not have in the classroo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kill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activity also tells you what skills students will improve.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deas to begin the Sec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s a section will begin with ideas of how you can introduce the sec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04920" y="228600"/>
            <a:ext cx="8381880" cy="6306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irwork an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will often say they are for </a:t>
            </a:r>
            <a:r>
              <a:rPr b="1" lang="en-US" sz="2800" spc="-1" strike="noStrike">
                <a:solidFill>
                  <a:srgbClr val="000000"/>
                </a:solidFill>
                <a:latin typeface="Arial"/>
              </a:rPr>
              <a:t>pairwork</a:t>
            </a:r>
            <a:r>
              <a:rPr b="0" lang="en-US" sz="2800" spc="-1" strike="noStrike">
                <a:solidFill>
                  <a:srgbClr val="000000"/>
                </a:solidFill>
                <a:latin typeface="Arial"/>
              </a:rPr>
              <a:t> or </a:t>
            </a:r>
            <a:r>
              <a:rPr b="1" lang="en-US" sz="2800" spc="-1" strike="noStrike">
                <a:solidFill>
                  <a:srgbClr val="000000"/>
                </a:solidFill>
                <a:latin typeface="Arial"/>
              </a:rPr>
              <a:t>groupwork</a:t>
            </a:r>
            <a:r>
              <a:rPr b="0" lang="en-US" sz="2800" spc="-1" strike="noStrike">
                <a:solidFill>
                  <a:srgbClr val="000000"/>
                </a:solidFill>
                <a:latin typeface="Arial"/>
              </a:rPr>
              <a:t>.  For pairwork activities, students will work with one other student.  As the pairs work, you can walk around the classroom to help them.  When the pairs have finished, you may want to ask some pairs to perform their conversations for the clas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work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groupwork activities, you can decide how big each group should be, depending on the activity.  After the groups have finished, you may want to ask one member of each group to tell the entire class what his or her group talked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5"/>
          <p:cNvSpPr/>
          <p:nvPr/>
        </p:nvSpPr>
        <p:spPr>
          <a:xfrm>
            <a:off x="228600" y="304920"/>
            <a:ext cx="8534520" cy="648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TION 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ew Langua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A of each unit introduces the new language to the student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peech Bubble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uses pictures and conversations in </a:t>
            </a:r>
            <a:r>
              <a:rPr b="0" lang="en-US" sz="3000" spc="-1" strike="noStrike" u="sng">
                <a:solidFill>
                  <a:srgbClr val="000000"/>
                </a:solidFill>
                <a:uFillTx/>
                <a:latin typeface="Arial"/>
              </a:rPr>
              <a:t>speech bubbles</a:t>
            </a:r>
            <a:r>
              <a:rPr b="0" lang="en-US" sz="3000" spc="-1" strike="noStrike">
                <a:solidFill>
                  <a:srgbClr val="000000"/>
                </a:solidFill>
                <a:latin typeface="Arial"/>
              </a:rPr>
              <a:t>, which makes it easier for the students to understand.  Different types of new language are introduced simply in small part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curacy</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A focuses on </a:t>
            </a:r>
            <a:r>
              <a:rPr b="0" lang="en-US" sz="3000" spc="-1" strike="noStrike" u="sng">
                <a:solidFill>
                  <a:srgbClr val="000000"/>
                </a:solidFill>
                <a:uFillTx/>
                <a:latin typeface="Arial"/>
              </a:rPr>
              <a:t>accuracy</a:t>
            </a:r>
            <a:r>
              <a:rPr b="0" lang="en-US" sz="3000" spc="-1" strike="noStrike">
                <a:solidFill>
                  <a:srgbClr val="000000"/>
                </a:solidFill>
                <a:latin typeface="Arial"/>
              </a:rPr>
              <a:t>, so the activities are very structured and many have only one correct answer.</a:t>
            </a:r>
            <a:endParaRPr b="0" lang="en-US" sz="3000" spc="-1" strike="noStrike">
              <a:solidFill>
                <a:srgbClr val="000000"/>
              </a:solidFill>
              <a:latin typeface="Arial"/>
            </a:endParaRPr>
          </a:p>
        </p:txBody>
      </p:sp>
      <p:sp>
        <p:nvSpPr>
          <p:cNvPr id="205" name="Oval Callout 2"/>
          <p:cNvSpPr/>
          <p:nvPr/>
        </p:nvSpPr>
        <p:spPr>
          <a:xfrm>
            <a:off x="6858000" y="2209680"/>
            <a:ext cx="1447920" cy="917640"/>
          </a:xfrm>
          <a:prstGeom prst="wedgeEllipse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228600" y="304920"/>
            <a:ext cx="8305920" cy="648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mmar Focu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bottom of the second page of Section A, there is always a </a:t>
            </a:r>
            <a:r>
              <a:rPr b="1" lang="en-US" sz="3000" spc="-1" strike="noStrike">
                <a:solidFill>
                  <a:srgbClr val="000000"/>
                </a:solidFill>
                <a:latin typeface="Arial"/>
              </a:rPr>
              <a:t>Grammar Focus</a:t>
            </a:r>
            <a:r>
              <a:rPr b="0" lang="en-US" sz="3000" spc="-1" strike="noStrike">
                <a:solidFill>
                  <a:srgbClr val="000000"/>
                </a:solidFill>
                <a:latin typeface="Arial"/>
              </a:rPr>
              <a:t> box.  This box shows the new grammatical structures that students will learn in the unit.  It usually puts it in a table to make it very clear and easy to understan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me or Activity</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ast activity of Section A, on the bottom of the third page, is always a game or other activity for the whole class.  The game is designed to allow all students to enjoy using the new languag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380880" y="228600"/>
            <a:ext cx="8382240" cy="648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TION B</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ew Language or Language Review</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B sometimes introduces more new language.  It also asks students to combine all of the new language together.  Additionally, students will combine new language with recycled langua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uency</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B focuses on </a:t>
            </a:r>
            <a:r>
              <a:rPr b="0" lang="en-US" sz="3000" spc="-1" strike="noStrike" u="sng">
                <a:solidFill>
                  <a:srgbClr val="000000"/>
                </a:solidFill>
                <a:uFillTx/>
                <a:latin typeface="Arial"/>
              </a:rPr>
              <a:t>fluency</a:t>
            </a:r>
            <a:r>
              <a:rPr b="0" lang="en-US" sz="3000" spc="-1" strike="noStrike">
                <a:solidFill>
                  <a:srgbClr val="000000"/>
                </a:solidFill>
                <a:latin typeface="Arial"/>
              </a:rPr>
              <a:t>, so activities are not as structured as in Section A.  The Pairwork and Groupwork activities let students talk to each other freely, so there is often no one correct answ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04920" y="136440"/>
            <a:ext cx="8610480" cy="576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LF CHECK SEC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ey vocabulary</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part of the Self Check Section lists the </a:t>
            </a:r>
            <a:r>
              <a:rPr b="1" lang="en-US" sz="2800" spc="-1" strike="noStrike">
                <a:solidFill>
                  <a:srgbClr val="000000"/>
                </a:solidFill>
                <a:latin typeface="Arial"/>
              </a:rPr>
              <a:t>key vocabulary</a:t>
            </a:r>
            <a:r>
              <a:rPr b="0" lang="en-US" sz="2800" spc="-1" strike="noStrike">
                <a:solidFill>
                  <a:srgbClr val="000000"/>
                </a:solidFill>
                <a:latin typeface="Arial"/>
              </a:rPr>
              <a:t>.  Students should know all of the wor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ocab-Builder</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the textbooks ask students to make a list of new words they have learned in their notebook or the back of the textbook.  The second seventh grade textbook calls it a </a:t>
            </a:r>
            <a:r>
              <a:rPr b="1" lang="en-US" sz="2800" spc="-1" strike="noStrike">
                <a:solidFill>
                  <a:srgbClr val="000000"/>
                </a:solidFill>
                <a:latin typeface="Arial"/>
              </a:rPr>
              <a:t>Vocab-Builder</a:t>
            </a:r>
            <a:r>
              <a:rPr b="0" lang="en-US" sz="2800" spc="-1" strike="noStrike">
                <a:solidFill>
                  <a:srgbClr val="000000"/>
                </a:solidFill>
                <a:latin typeface="Arial"/>
              </a:rPr>
              <a:t>.  Making a list will help students remember the new words better.  Even if the textbook does not ask students to make a list, you may want to ask them to make one anyw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380880" y="822240"/>
            <a:ext cx="838224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ther activitie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ther activities help students practice writing using the new langua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ust for Fu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lf Check Section ends with a </a:t>
            </a:r>
            <a:r>
              <a:rPr b="1" lang="en-US" sz="3000" spc="-1" strike="noStrike">
                <a:solidFill>
                  <a:srgbClr val="000000"/>
                </a:solidFill>
                <a:latin typeface="Arial"/>
              </a:rPr>
              <a:t>Just for Fun!</a:t>
            </a:r>
            <a:r>
              <a:rPr b="0" lang="en-US" sz="3000" spc="-1" strike="noStrike">
                <a:solidFill>
                  <a:srgbClr val="000000"/>
                </a:solidFill>
                <a:latin typeface="Arial"/>
              </a:rPr>
              <a:t> </a:t>
            </a:r>
            <a:r>
              <a:rPr b="0" lang="en-US" sz="3000" spc="-1" strike="noStrike" u="sng">
                <a:solidFill>
                  <a:srgbClr val="000000"/>
                </a:solidFill>
                <a:uFillTx/>
                <a:latin typeface="Arial"/>
              </a:rPr>
              <a:t>cartoon</a:t>
            </a:r>
            <a:r>
              <a:rPr b="0" lang="en-US" sz="3000" spc="-1" strike="noStrike">
                <a:solidFill>
                  <a:srgbClr val="000000"/>
                </a:solidFill>
                <a:latin typeface="Arial"/>
              </a:rPr>
              <a:t> that uses the new language.  The Teachers</a:t>
            </a:r>
            <a:r>
              <a:rPr b="0" lang="ja-JP" sz="3000" spc="-1" strike="noStrike">
                <a:solidFill>
                  <a:srgbClr val="000000"/>
                </a:solidFill>
                <a:latin typeface="Arial"/>
              </a:rPr>
              <a:t>’</a:t>
            </a:r>
            <a:r>
              <a:rPr b="0" lang="en-US" sz="3000" spc="-1" strike="noStrike">
                <a:solidFill>
                  <a:srgbClr val="000000"/>
                </a:solidFill>
                <a:latin typeface="Arial"/>
              </a:rPr>
              <a:t> Book gives some questions that you might ask the students after reading the cartoon to encourage them to talk about it using the new languag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18:19:24Z</dcterms:created>
  <dc:creator>Connie Chan</dc:creator>
  <dc:description/>
  <dc:language>en-US</dc:language>
  <cp:lastModifiedBy>Cynthia Wiseman</cp:lastModifiedBy>
  <dcterms:modified xsi:type="dcterms:W3CDTF">2013-12-28T06:22:51Z</dcterms:modified>
  <cp:revision>13</cp:revision>
  <dc:subject/>
  <dc:title>How to Teach Using Go for it!</dc:title>
</cp:coreProperties>
</file>